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6.wmf" ContentType="image/x-wmf"/>
  <Override PartName="/ppt/media/image24.png" ContentType="image/png"/>
  <Override PartName="/ppt/media/image22.wmf" ContentType="image/x-wmf"/>
  <Override PartName="/ppt/media/image21.jpeg" ContentType="image/jpeg"/>
  <Override PartName="/ppt/media/image18.wmf" ContentType="image/x-wmf"/>
  <Override PartName="/ppt/media/image2.jpeg" ContentType="image/jpeg"/>
  <Override PartName="/ppt/media/image20.png" ContentType="image/png"/>
  <Override PartName="/ppt/media/image16.png" ContentType="image/png"/>
  <Override PartName="/ppt/media/image14.jpeg" ContentType="image/jpeg"/>
  <Override PartName="/ppt/media/image15.wmf" ContentType="image/x-wmf"/>
  <Override PartName="/ppt/media/image1.jpeg" ContentType="image/jpeg"/>
  <Override PartName="/ppt/media/image10.jpeg" ContentType="image/jpeg"/>
  <Override PartName="/ppt/media/image5.png" ContentType="image/png"/>
  <Override PartName="/ppt/media/image27.png" ContentType="image/png"/>
  <Override PartName="/ppt/media/image12.wmf" ContentType="image/x-wmf"/>
  <Override PartName="/ppt/media/image30.jpeg" ContentType="image/jpeg"/>
  <Override PartName="/ppt/media/image35.wmf" ContentType="image/x-wmf"/>
  <Override PartName="/ppt/media/image32.jpeg" ContentType="image/jpeg"/>
  <Override PartName="/ppt/media/image33.wmf" ContentType="image/x-wmf"/>
  <Override PartName="/ppt/media/image13.png" ContentType="image/png"/>
  <Override PartName="/ppt/media/image37.jpeg" ContentType="image/jpeg"/>
  <Override PartName="/ppt/media/image40.wmf" ContentType="image/x-wmf"/>
  <Override PartName="/ppt/media/image34.jpeg" ContentType="image/jpeg"/>
  <Override PartName="/ppt/media/image7.jpeg" ContentType="image/jpeg"/>
  <Override PartName="/ppt/media/image28.jpeg" ContentType="image/jpeg"/>
  <Override PartName="/ppt/media/image36.wmf" ContentType="image/x-wmf"/>
  <Override PartName="/ppt/media/image39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29.wmf" ContentType="image/x-wmf"/>
  <Override PartName="/ppt/media/image31.png" ContentType="image/png"/>
  <Override PartName="/ppt/media/image6.png" ContentType="image/png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3F93-453E-47F8-BEDB-CFAA67797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B317C-131E-4AAD-9BD4-2D626D83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1664-100F-41DF-A312-B32E1F733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90D1-D37B-4CEE-A9DE-0BD9A6991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212F9-D04A-49DA-B14A-23F1C2600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45DE-31A1-445A-B52C-3B5FFEF99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ECD29-49F1-448E-8541-8CBFF4554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DCD24-289F-456D-97CD-796B2FB4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A52DE-A1E1-4AAF-A21F-A9B99D03E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00B0-06AB-423C-8D51-6D9000DD4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022A-03AF-420B-8AFD-598A09E40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86AB-2802-4BF3-BBBE-8A826B8A1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C5DA1-0FEE-42B2-91A2-BD3A4B18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F2D80-B9CF-4CC7-BC7C-630B1E22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25D34-8091-4396-BE4B-C2CE3F461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C49BA-D621-4621-BE79-E6DF0B9D4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21322-7E1D-4F9D-864D-D3865052F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DA5D8-7E3C-4007-89A1-C6D8BAA23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780B5D-28BF-444B-8A33-A3B085453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A9127-A250-4668-AE65-D2FE87C51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AEA29-A6CC-4AE3-BAF2-3489401D1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211EF-4FBB-4D88-BBD3-63279FC62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A140-1003-4FE6-BE1F-B6050688E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3EAA22-720D-48F1-B8CC-4AA6ED2EB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D0B16-14BE-4E63-9E13-65B5712A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49E635-0178-4464-B257-4CEC2C8A6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9B1474-A1FB-451A-8C30-E0CC4319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C8741-CF2A-4372-8F1D-21F2E1D4C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86A522-271D-444D-8585-7B5562014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AFF56-5B03-4B73-AA2A-81F7351EE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3B5A41-857B-4B6E-8F1B-3D627BE22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8F78A6-6301-438D-A969-463777225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8E26E-BF1E-4DE9-BF5A-2687919A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C0B6-B14C-400D-B533-E5DCBA16B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406EA-5F98-4F8F-9991-EB3BCEB0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334B8B-2190-42FD-8FE6-AE0BA73A6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1AF45-19B9-4063-BA7A-50D6C405A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6FC7B0-6160-45BE-89DA-E65AB3B6C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C4A7B5-100A-415F-9C5A-FB4BC7DAF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952FBC-5ACC-48BD-97FB-B0CBA7B1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DCA1D-AC4C-4ADC-B4F1-AEB8A999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9836EC-0909-4C6F-B479-0771625ED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F55846-B7B6-4444-AC95-33DE7E2D7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009BC-8DB0-4FA0-88FA-364124BD9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8734-2ED1-4B77-B847-4584C3981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95603C-7815-4946-A3DB-7F41B64C8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9751B5-D429-489D-8EEE-02C0023FE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09DEF9-D56D-41A3-9B1F-E838EA27D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8DE59-0364-47D8-8124-E52965CA0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0B5A18-D8EA-4FBA-8011-2370FD435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C741BC-3AA3-4165-919D-F8E0B5AF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8F3A6B-BB02-4A24-A2F6-57C2A8ED7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467D4F-C594-4D71-9CA0-006336569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140F35-59D0-4835-8FDF-61D7AB6D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EE53F-4BEB-4AE6-9DE4-9419CE52A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27B0-CC75-4A0B-A557-F5A9E3D8F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78F6F2-58D2-4F60-B783-B121F869C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3EA53-C2C9-41EE-8E41-8A99A7D1E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87617-565C-4F0C-AB24-94235E029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B0A65E-635C-489C-8DFF-31B7D1F9C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205826-D6E7-46B9-B1AA-41AD78D4C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1AC89B-AB93-41D9-95BF-29F2C364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93F92-B490-4182-9654-6D9E77B90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62133-5C37-482B-B678-E8AFEFBE5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5AF5FB-24A3-4EA3-AD1A-5E783B5B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A7C77F-5669-4E49-80DD-6987FBE5B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A543-BB27-4D18-A05F-47CDBA85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223F5D-7D56-462A-A363-B5D4EB3A1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5D3700-5DDA-48D4-8167-302BBE994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29FEF7-DD89-4317-8816-B5955D85C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92E466-8D7F-4C05-B5FA-EE9C5809C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511BFC-C500-4191-9665-3B5877E59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A61B1-941E-4099-A6E8-C8E0EE347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1B792C-B100-4FDF-B89A-52784DACB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B0FD1-6181-40AB-AE6C-3FE06EB35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F784A0-D53B-4E3F-976D-15000ACC0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5A272-E054-4952-B024-4209639C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D8F9-B4F5-4033-9698-1D4D0F33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B302F0-E0FE-4A6F-B8CA-8E067BE39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A2FDC-0276-4B24-9CFB-BFEC7E565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A0E0B7-C4DF-4185-AE47-74AD65E67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FBDD06-8F09-4E65-89C4-FEC05E427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D48140-680E-4216-8C06-76D0C1ACE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7A2E28-3B4F-4339-9898-56037607B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03D5AD-F9D0-4868-96CF-72B840E5A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5CD5B9-0455-4DB4-835A-43DD722E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7F5CD-82F6-4A49-BF3E-F383A6EDF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93BD1-75FA-449F-9178-D11248CB9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2706-DF2B-4AA5-8979-051163624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374BC0-3577-4CF7-AC2E-BE49DB73E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350C2E-6340-4A45-9EB3-7AE09ADE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66EE8-3844-4DFD-A4BA-00B1FAD8F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FA9B4-88D8-473C-BE20-2A5BB8B8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CF4FF3-0086-44BC-8F88-C9930E368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A9F394-1717-4978-A8CC-C283349F6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F112FA-3B93-482A-BAB6-D4D65A7F0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7567-1131-4555-AD4E-5FD58EB5C6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C15B-49F7-4D61-90B1-DA1202D1B6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75BF8-BDF8-41E8-AF3E-7CE13DA131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1CD06-C952-4D5E-A6C6-A2CC72834C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87F18-AC43-49FD-B3EF-977C325C069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314C7-D39C-4F9E-836F-309DBB204C9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64AFD-5C92-4EB5-8F5E-689A3EA987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4d"/>
            </a:gs>
            <a:gs pos="100000">
              <a:srgbClr val="00003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7D933-9D79-4AE3-8065-CEF69F4AB07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5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0.wmf"/><Relationship Id="rId5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wmf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55640" y="17427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Verdana"/>
              </a:rPr>
              <a:t>MERCADO PARA LA AGROINDUSTRIA PERUANA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2263680" y="3429000"/>
            <a:ext cx="460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Fernando Cillóniz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www.informaccion.co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tretch/>
        </p:blipFill>
        <p:spPr>
          <a:xfrm>
            <a:off x="3708360" y="836640"/>
            <a:ext cx="1971720" cy="523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500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" dur="500"/>
                                        <p:tgtEl>
                                          <p:spTgt spid="3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1" name=""/>
          <p:cNvGraphicFramePr/>
          <p:nvPr/>
        </p:nvGraphicFramePr>
        <p:xfrm>
          <a:off x="154080" y="957240"/>
          <a:ext cx="8961480" cy="5202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4080" y="957240"/>
                    <a:ext cx="8961480" cy="520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"/>
          <p:cNvSpPr/>
          <p:nvPr/>
        </p:nvSpPr>
        <p:spPr>
          <a:xfrm>
            <a:off x="179280" y="6248520"/>
            <a:ext cx="4419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Fuente: Mercado Productores de Sta Ani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aboración: inform@c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2410920" y="-90720"/>
            <a:ext cx="6193080" cy="114300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ZUCAR: ABASTECIMIENTO EN EL MERCADO PRODUCTORES DE SANTA ANITA (TM) -  20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0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268360" y="-18000"/>
            <a:ext cx="673272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LGODON: PRODUCC. NACIONAL (TM) Y PRECIOS CHACRA* (US$ / KG)  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ene 01 - dic 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-59040" y="836640"/>
            <a:ext cx="9176040" cy="6023160"/>
            <a:chOff x="-59040" y="836640"/>
            <a:chExt cx="9176040" cy="6023160"/>
          </a:xfrm>
        </p:grpSpPr>
        <p:sp>
          <p:nvSpPr>
            <p:cNvPr id="409" name=""/>
            <p:cNvSpPr/>
            <p:nvPr/>
          </p:nvSpPr>
          <p:spPr>
            <a:xfrm>
              <a:off x="-59040" y="6400800"/>
              <a:ext cx="37803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* Precio de principal variedad: Algodón Tanguis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Fuente: MINAG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410" name=""/>
            <p:cNvGraphicFramePr/>
            <p:nvPr/>
          </p:nvGraphicFramePr>
          <p:xfrm>
            <a:off x="6480" y="1233360"/>
            <a:ext cx="9110520" cy="4902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1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0" y="1233360"/>
                      <a:ext cx="9110520" cy="4902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412" name=""/>
            <p:cNvGrpSpPr/>
            <p:nvPr/>
          </p:nvGrpSpPr>
          <p:grpSpPr>
            <a:xfrm>
              <a:off x="7315200" y="836640"/>
              <a:ext cx="1757880" cy="1066680"/>
              <a:chOff x="7315200" y="836640"/>
              <a:chExt cx="1757880" cy="1066680"/>
            </a:xfrm>
          </p:grpSpPr>
          <p:sp>
            <p:nvSpPr>
              <p:cNvPr id="413" name=""/>
              <p:cNvSpPr/>
              <p:nvPr/>
            </p:nvSpPr>
            <p:spPr>
              <a:xfrm>
                <a:off x="7315200" y="836640"/>
                <a:ext cx="1752480" cy="1066680"/>
              </a:xfrm>
              <a:prstGeom prst="flowChartAlternateProcess">
                <a:avLst/>
              </a:prstGeom>
              <a:solidFill>
                <a:srgbClr val="ffcc00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923240" y="912960"/>
                <a:ext cx="406080" cy="2462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0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 </a:t>
                </a:r>
                <a:r>
                  <a:rPr b="1" lang="es-MX" sz="10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TM</a:t>
                </a:r>
                <a:endParaRPr b="0" lang="en-US" sz="10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429320" y="1141560"/>
                <a:ext cx="1104480" cy="69552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Año - 02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Año - 03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1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Variación %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326800" y="1081080"/>
                <a:ext cx="746280" cy="7506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127,368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123,367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lang="es-MX" sz="1200" spc="-1" strike="noStrike">
                    <a:solidFill>
                      <a:srgbClr val="000000"/>
                    </a:solidFill>
                    <a:latin typeface="Verdana"/>
                  </a:rPr>
                  <a:t>&lt; 3</a:t>
                </a:r>
                <a:endParaRPr b="0" lang="en-US" sz="1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pic>
        <p:nvPicPr>
          <p:cNvPr id="41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1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500"/>
                            </p:stCondLst>
                            <p:childTnLst>
                              <p:par>
                                <p:cTn id="19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"/>
          <p:cNvGrpSpPr/>
          <p:nvPr/>
        </p:nvGrpSpPr>
        <p:grpSpPr>
          <a:xfrm>
            <a:off x="168120" y="919080"/>
            <a:ext cx="9018720" cy="5797080"/>
            <a:chOff x="168120" y="919080"/>
            <a:chExt cx="9018720" cy="5797080"/>
          </a:xfrm>
        </p:grpSpPr>
        <p:graphicFrame>
          <p:nvGraphicFramePr>
            <p:cNvPr id="420" name=""/>
            <p:cNvGraphicFramePr/>
            <p:nvPr/>
          </p:nvGraphicFramePr>
          <p:xfrm>
            <a:off x="168120" y="919080"/>
            <a:ext cx="9018720" cy="5264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2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68120" y="919080"/>
                      <a:ext cx="9018720" cy="5264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22" name=""/>
            <p:cNvSpPr/>
            <p:nvPr/>
          </p:nvSpPr>
          <p:spPr>
            <a:xfrm>
              <a:off x="457200" y="6165720"/>
              <a:ext cx="23018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</a:rPr>
                <a:t>*Estimado</a:t>
              </a: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Fuente: MINAG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259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LGODON: PRODUCCION NACIONAL</a:t>
            </a:r>
            <a:br>
              <a:rPr sz="1800"/>
            </a:b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 (TM) - 2003 </a:t>
            </a: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0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2050560" y="-9072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ESPARRAGO FRESC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999 -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2003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95360" y="643428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177840" y="884160"/>
            <a:ext cx="8907480" cy="5876280"/>
            <a:chOff x="177840" y="884160"/>
            <a:chExt cx="8907480" cy="5876280"/>
          </a:xfrm>
        </p:grpSpPr>
        <p:graphicFrame>
          <p:nvGraphicFramePr>
            <p:cNvPr id="429" name=""/>
            <p:cNvGraphicFramePr/>
            <p:nvPr/>
          </p:nvGraphicFramePr>
          <p:xfrm>
            <a:off x="177840" y="884160"/>
            <a:ext cx="8907480" cy="54752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0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77840" y="884160"/>
                      <a:ext cx="8907480" cy="5475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31" name=""/>
            <p:cNvSpPr/>
            <p:nvPr/>
          </p:nvSpPr>
          <p:spPr>
            <a:xfrm>
              <a:off x="496440" y="6451560"/>
              <a:ext cx="175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AD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836800" y="6453360"/>
              <a:ext cx="248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(*) Cifras preliminares 2003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33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34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2050920" y="115920"/>
            <a:ext cx="680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SA: MERCADO DEL ESPARRAGO FRESCO </a:t>
            </a:r>
            <a:br>
              <a:rPr sz="2000"/>
            </a:b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ENE 00 – DIC 02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47520" y="1035000"/>
            <a:ext cx="9167760" cy="5550120"/>
            <a:chOff x="47520" y="1035000"/>
            <a:chExt cx="9167760" cy="5550120"/>
          </a:xfrm>
        </p:grpSpPr>
        <p:graphicFrame>
          <p:nvGraphicFramePr>
            <p:cNvPr id="437" name=""/>
            <p:cNvGraphicFramePr/>
            <p:nvPr/>
          </p:nvGraphicFramePr>
          <p:xfrm>
            <a:off x="47520" y="1035000"/>
            <a:ext cx="9167760" cy="5294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3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47520" y="1035000"/>
                      <a:ext cx="9167760" cy="52945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439" name=""/>
            <p:cNvSpPr/>
            <p:nvPr/>
          </p:nvSpPr>
          <p:spPr>
            <a:xfrm>
              <a:off x="179280" y="6308640"/>
              <a:ext cx="2962440" cy="2764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Fuente : AMS / USDA  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65520" y="2297160"/>
              <a:ext cx="490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2000                          2001                           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4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horz"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4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MANG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(KG) CAMPAÑAS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1999/2000 -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2003/ 2004*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4" name=""/>
          <p:cNvGraphicFramePr/>
          <p:nvPr/>
        </p:nvGraphicFramePr>
        <p:xfrm>
          <a:off x="95400" y="1057320"/>
          <a:ext cx="9119880" cy="534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5400" y="1057320"/>
                    <a:ext cx="9119880" cy="534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6" name=""/>
          <p:cNvSpPr/>
          <p:nvPr/>
        </p:nvSpPr>
        <p:spPr>
          <a:xfrm>
            <a:off x="28800" y="6308640"/>
            <a:ext cx="2392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400" spc="-1" strike="noStrike">
                <a:solidFill>
                  <a:srgbClr val="ffffff"/>
                </a:solidFill>
                <a:latin typeface="Arial"/>
                <a:ea typeface="Arial"/>
              </a:rPr>
              <a:t>(*) Hasta 19 de enero 2004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ffffff"/>
                </a:solidFill>
                <a:latin typeface="Arial"/>
                <a:ea typeface="Arial"/>
              </a:rPr>
              <a:t>Fuente: AD</a:t>
            </a:r>
            <a:r>
              <a:rPr b="1" i="1" lang="es-MX" sz="1400" spc="-1" strike="noStrike">
                <a:solidFill>
                  <a:srgbClr val="ffffff"/>
                </a:solidFill>
                <a:latin typeface="Arial"/>
                <a:ea typeface="Arial"/>
              </a:rPr>
              <a:t>UANAS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181080" y="645948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4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in" orient="vert"/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612720" y="11592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USA: MERCADO DEL MANGO </a:t>
            </a:r>
            <a:br>
              <a:rPr sz="2200"/>
            </a:b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ENE 00 – DIC 02 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53" name=""/>
          <p:cNvGrpSpPr/>
          <p:nvPr/>
        </p:nvGrpSpPr>
        <p:grpSpPr>
          <a:xfrm>
            <a:off x="0" y="1035000"/>
            <a:ext cx="9215280" cy="5684040"/>
            <a:chOff x="0" y="1035000"/>
            <a:chExt cx="9215280" cy="5684040"/>
          </a:xfrm>
        </p:grpSpPr>
        <p:graphicFrame>
          <p:nvGraphicFramePr>
            <p:cNvPr id="454" name=""/>
            <p:cNvGraphicFramePr/>
            <p:nvPr/>
          </p:nvGraphicFramePr>
          <p:xfrm>
            <a:off x="47520" y="1035000"/>
            <a:ext cx="9167760" cy="52945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55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7520" y="1035000"/>
                      <a:ext cx="9167760" cy="5294520"/>
                    </a:xfrm>
                    <a:prstGeom prst="rect">
                      <a:avLst/>
                    </a:prstGeom>
                    <a:ln w="0">
                      <a:noFill/>
                    </a:ln>
                    <a:effectLst>
                      <a:outerShdw dist="17819" dir="2700000" blurRad="0" rotWithShape="0">
                        <a:srgbClr val="000000"/>
                      </a:outerShdw>
                    </a:effectLst>
                  </p:spPr>
                </p:pic>
              </p:oleObj>
            </a:graphicData>
          </a:graphic>
        </p:graphicFrame>
        <p:sp>
          <p:nvSpPr>
            <p:cNvPr id="456" name=""/>
            <p:cNvSpPr/>
            <p:nvPr/>
          </p:nvSpPr>
          <p:spPr>
            <a:xfrm>
              <a:off x="0" y="6381720"/>
              <a:ext cx="2746440" cy="337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Verdana"/>
                </a:rPr>
                <a:t>Fuente : AMS / USDA  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237120" y="2270160"/>
              <a:ext cx="4606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2000                        2001                        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split dir="out" orient="horz"/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62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050920" y="-243360"/>
            <a:ext cx="69487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UVAS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R 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STINO</a:t>
            </a:r>
            <a:br>
              <a:rPr sz="1800"/>
            </a:b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(KG NETOS) 98/99, 99/00, 00/01, 01/02, 02/03 Y 03/04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438120" y="58294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800" y="914400"/>
            <a:ext cx="9059760" cy="5917320"/>
            <a:chOff x="1800" y="914400"/>
            <a:chExt cx="9059760" cy="5917320"/>
          </a:xfrm>
        </p:grpSpPr>
        <p:graphicFrame>
          <p:nvGraphicFramePr>
            <p:cNvPr id="461" name=""/>
            <p:cNvGraphicFramePr/>
            <p:nvPr/>
          </p:nvGraphicFramePr>
          <p:xfrm>
            <a:off x="11160" y="914400"/>
            <a:ext cx="9050400" cy="53910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6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11160" y="914400"/>
                      <a:ext cx="9050400" cy="539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63" name=""/>
            <p:cNvSpPr/>
            <p:nvPr/>
          </p:nvSpPr>
          <p:spPr>
            <a:xfrm>
              <a:off x="1800" y="6524640"/>
              <a:ext cx="1709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AD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2750400" y="6502320"/>
              <a:ext cx="2186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ffff"/>
                  </a:solidFill>
                  <a:latin typeface="Arial"/>
                </a:rPr>
                <a:t>(*)Hasta Diciembre del 2003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65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2411280" y="115920"/>
            <a:ext cx="64818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ESTADOS UNIDOS: ABASTECIMIENTO DE UVA FRESCA  1999 - 2002 (TM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0" y="1035000"/>
            <a:ext cx="9215280" cy="5684040"/>
            <a:chOff x="0" y="1035000"/>
            <a:chExt cx="9215280" cy="5684040"/>
          </a:xfrm>
        </p:grpSpPr>
        <p:grpSp>
          <p:nvGrpSpPr>
            <p:cNvPr id="471" name=""/>
            <p:cNvGrpSpPr/>
            <p:nvPr/>
          </p:nvGrpSpPr>
          <p:grpSpPr>
            <a:xfrm>
              <a:off x="0" y="1035000"/>
              <a:ext cx="9215280" cy="5684040"/>
              <a:chOff x="0" y="1035000"/>
              <a:chExt cx="9215280" cy="5684040"/>
            </a:xfrm>
          </p:grpSpPr>
          <p:graphicFrame>
            <p:nvGraphicFramePr>
              <p:cNvPr id="472" name=""/>
              <p:cNvGraphicFramePr/>
              <p:nvPr/>
            </p:nvGraphicFramePr>
            <p:xfrm>
              <a:off x="47520" y="1035000"/>
              <a:ext cx="9167760" cy="541836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473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7520" y="1035000"/>
                        <a:ext cx="9167760" cy="5418360"/>
                      </a:xfrm>
                      <a:prstGeom prst="rect">
                        <a:avLst/>
                      </a:prstGeom>
                      <a:ln w="0">
                        <a:noFill/>
                      </a:ln>
                      <a:effectLst>
                        <a:outerShdw dist="17819" dir="2700000" blurRad="0" rotWithShape="0">
                          <a:srgbClr val="000000"/>
                        </a:outerShdw>
                      </a:effectLst>
                    </p:spPr>
                  </p:pic>
                </p:oleObj>
              </a:graphicData>
            </a:graphic>
          </p:graphicFrame>
          <p:sp>
            <p:nvSpPr>
              <p:cNvPr id="474" name=""/>
              <p:cNvSpPr/>
              <p:nvPr/>
            </p:nvSpPr>
            <p:spPr>
              <a:xfrm>
                <a:off x="0" y="6381720"/>
                <a:ext cx="3348000" cy="33732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Verdana"/>
                  </a:rPr>
                  <a:t>Fuente : Gobierno de Estados Unidos</a:t>
                </a:r>
                <a:r>
                  <a:rPr b="1" lang="es-ES_tradnl" sz="16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endParaRPr b="0" lang="en-US" sz="16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475" name=""/>
            <p:cNvSpPr/>
            <p:nvPr/>
          </p:nvSpPr>
          <p:spPr>
            <a:xfrm>
              <a:off x="2790720" y="2060640"/>
              <a:ext cx="489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Verdana"/>
                </a:rPr>
                <a:t>1999              2000                2001              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 spd="med">
    <p:split dir="out" orient="horz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979280" y="-243360"/>
            <a:ext cx="71643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PALTA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(KG NETOS)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1999,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2000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2002 y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-6120" y="836640"/>
            <a:ext cx="8980200" cy="6012360"/>
            <a:chOff x="-6120" y="836640"/>
            <a:chExt cx="8980200" cy="6012360"/>
          </a:xfrm>
        </p:grpSpPr>
        <p:graphicFrame>
          <p:nvGraphicFramePr>
            <p:cNvPr id="478" name=""/>
            <p:cNvGraphicFramePr/>
            <p:nvPr/>
          </p:nvGraphicFramePr>
          <p:xfrm>
            <a:off x="0" y="836640"/>
            <a:ext cx="8974080" cy="54370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79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836640"/>
                      <a:ext cx="8974080" cy="5437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0" name=""/>
            <p:cNvSpPr/>
            <p:nvPr/>
          </p:nvSpPr>
          <p:spPr>
            <a:xfrm>
              <a:off x="325080" y="6237360"/>
              <a:ext cx="175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A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-6120" y="6541920"/>
              <a:ext cx="247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Arial"/>
                </a:rPr>
                <a:t>(*) Datos preliminares 2003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82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500"/>
                            </p:stCondLst>
                            <p:childTnLst>
                              <p:par>
                                <p:cTn id="31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195280" y="-76680"/>
            <a:ext cx="64911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PAPA: PRECIOS Y VOLUMENES SUMINISTRADOS AL MERCADO MAYORISTA DE LIMA 2001, 2002 Y 2003</a:t>
            </a:r>
            <a:r>
              <a:rPr b="0" lang="es-ES_tradnl" sz="1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32" name=""/>
          <p:cNvGrpSpPr/>
          <p:nvPr/>
        </p:nvGrpSpPr>
        <p:grpSpPr>
          <a:xfrm>
            <a:off x="-10800" y="981000"/>
            <a:ext cx="9288000" cy="5704920"/>
            <a:chOff x="-10800" y="981000"/>
            <a:chExt cx="9288000" cy="5704920"/>
          </a:xfrm>
        </p:grpSpPr>
        <p:sp>
          <p:nvSpPr>
            <p:cNvPr id="333" name=""/>
            <p:cNvSpPr/>
            <p:nvPr/>
          </p:nvSpPr>
          <p:spPr>
            <a:xfrm>
              <a:off x="-10800" y="6165720"/>
              <a:ext cx="2652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NOTA:  Precio de Papa Blanc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Fuente: EMMS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334" name=""/>
            <p:cNvGraphicFramePr/>
            <p:nvPr/>
          </p:nvGraphicFramePr>
          <p:xfrm>
            <a:off x="0" y="998280"/>
            <a:ext cx="9277200" cy="52387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35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98280"/>
                      <a:ext cx="9277200" cy="5238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36" name=""/>
            <p:cNvSpPr/>
            <p:nvPr/>
          </p:nvSpPr>
          <p:spPr>
            <a:xfrm>
              <a:off x="7362720" y="981000"/>
              <a:ext cx="175284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1120" y="1056960"/>
              <a:ext cx="40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15200" y="1285560"/>
              <a:ext cx="1104840" cy="69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74680" y="1225440"/>
              <a:ext cx="746280" cy="75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480,956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462,86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200" spc="-1" strike="noStrike">
                  <a:solidFill>
                    <a:srgbClr val="000000"/>
                  </a:solidFill>
                  <a:latin typeface="Verdana"/>
                </a:rPr>
                <a:t>&lt; 4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050560" y="-171720"/>
            <a:ext cx="7201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XPORTACIONES DE</a:t>
            </a:r>
            <a:r>
              <a:rPr b="0" lang="es-MX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CITRICOS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POR 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PAIS DE 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ESTINO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600"/>
            </a:b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(KG NETOS) 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 1999, 2000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 2001,</a:t>
            </a: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 2002 y 2003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5" name=""/>
          <p:cNvGrpSpPr/>
          <p:nvPr/>
        </p:nvGrpSpPr>
        <p:grpSpPr>
          <a:xfrm>
            <a:off x="3240" y="1071720"/>
            <a:ext cx="8947080" cy="5455080"/>
            <a:chOff x="3240" y="1071720"/>
            <a:chExt cx="8947080" cy="5455080"/>
          </a:xfrm>
        </p:grpSpPr>
        <p:graphicFrame>
          <p:nvGraphicFramePr>
            <p:cNvPr id="486" name=""/>
            <p:cNvGraphicFramePr/>
            <p:nvPr/>
          </p:nvGraphicFramePr>
          <p:xfrm>
            <a:off x="3240" y="1071720"/>
            <a:ext cx="8947080" cy="51559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87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240" y="1071720"/>
                      <a:ext cx="8947080" cy="51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8" name=""/>
            <p:cNvSpPr/>
            <p:nvPr/>
          </p:nvSpPr>
          <p:spPr>
            <a:xfrm>
              <a:off x="74160" y="6219720"/>
              <a:ext cx="1759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Fuente: A</a:t>
              </a:r>
              <a:r>
                <a:rPr b="1" i="1" lang="es-MX" sz="1400" spc="-1" strike="noStrike">
                  <a:solidFill>
                    <a:srgbClr val="ffffff"/>
                  </a:solidFill>
                  <a:latin typeface="Arial"/>
                  <a:ea typeface="Arial"/>
                </a:rPr>
                <a:t>D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89" name="" descr=""/>
          <p:cNvPicPr/>
          <p:nvPr/>
        </p:nvPicPr>
        <p:blipFill>
          <a:blip r:embed="rId4"/>
          <a:stretch/>
        </p:blipFill>
        <p:spPr>
          <a:xfrm>
            <a:off x="-3492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90" name=""/>
          <p:cNvSpPr/>
          <p:nvPr/>
        </p:nvSpPr>
        <p:spPr>
          <a:xfrm>
            <a:off x="3780000" y="6400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8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2340000" y="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STINO MENSUAL DE LAS EXPORTACIONES DE CITR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NERO 1999 - 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DICIEMBRE</a:t>
            </a: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 200</a:t>
            </a:r>
            <a:r>
              <a:rPr b="0" lang="es-MX" sz="1600" spc="-1" strike="noStrike">
                <a:solidFill>
                  <a:srgbClr val="000000"/>
                </a:solidFill>
                <a:latin typeface="Verdana"/>
              </a:rPr>
              <a:t>3 (TM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92" name=""/>
          <p:cNvGrpSpPr/>
          <p:nvPr/>
        </p:nvGrpSpPr>
        <p:grpSpPr>
          <a:xfrm>
            <a:off x="57240" y="981000"/>
            <a:ext cx="9086760" cy="6092280"/>
            <a:chOff x="57240" y="981000"/>
            <a:chExt cx="9086760" cy="6092280"/>
          </a:xfrm>
        </p:grpSpPr>
        <p:graphicFrame>
          <p:nvGraphicFramePr>
            <p:cNvPr id="493" name=""/>
            <p:cNvGraphicFramePr/>
            <p:nvPr/>
          </p:nvGraphicFramePr>
          <p:xfrm>
            <a:off x="57240" y="981000"/>
            <a:ext cx="9086760" cy="55245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49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7240" y="981000"/>
                      <a:ext cx="9086760" cy="552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95" name=""/>
            <p:cNvSpPr/>
            <p:nvPr/>
          </p:nvSpPr>
          <p:spPr>
            <a:xfrm>
              <a:off x="124560" y="6553080"/>
              <a:ext cx="16650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Fuente: AD</a:t>
              </a:r>
              <a:r>
                <a:rPr b="1" i="1" lang="es-MX" sz="14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UANAS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258920" y="2060640"/>
              <a:ext cx="734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s-MX" sz="2000" spc="-1" strike="noStrike">
                  <a:solidFill>
                    <a:srgbClr val="000000"/>
                  </a:solidFill>
                  <a:latin typeface="Verdana"/>
                </a:rPr>
                <a:t>1999            2000            2001         2002          2003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49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8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050560" y="-360"/>
            <a:ext cx="70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TADOS UNIDOS: ABASTECIMIENTO DE CITRICOS FRESCOS 2000 - 2002 (TM)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57960" y="984240"/>
            <a:ext cx="9119520" cy="5864400"/>
            <a:chOff x="57960" y="984240"/>
            <a:chExt cx="9119520" cy="5864400"/>
          </a:xfrm>
        </p:grpSpPr>
        <p:graphicFrame>
          <p:nvGraphicFramePr>
            <p:cNvPr id="501" name=""/>
            <p:cNvGraphicFramePr/>
            <p:nvPr/>
          </p:nvGraphicFramePr>
          <p:xfrm>
            <a:off x="81000" y="984240"/>
            <a:ext cx="9096480" cy="564840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50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81000" y="984240"/>
                      <a:ext cx="9096480" cy="5648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03" name=""/>
            <p:cNvSpPr/>
            <p:nvPr/>
          </p:nvSpPr>
          <p:spPr>
            <a:xfrm>
              <a:off x="57960" y="6572160"/>
              <a:ext cx="2573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Verdana"/>
                </a:rPr>
                <a:t>Fuente: Gobierno Estados Unidos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1973520" y="17733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Verdana"/>
                </a:rPr>
                <a:t>2000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4781520" y="17733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Verdana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229520" y="177336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0000"/>
                  </a:solidFill>
                  <a:latin typeface="Verdana"/>
                </a:rPr>
                <a:t>2002</a:t>
              </a: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50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08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0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6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123640" y="-171720"/>
            <a:ext cx="68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Índice del Tipo de Cambio e Índice de Precios al Consumidor de Perú y Brasil (Año 1994=100)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3780000" y="642780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"/>
          <p:cNvSpPr/>
          <p:nvPr/>
        </p:nvSpPr>
        <p:spPr>
          <a:xfrm>
            <a:off x="158760" y="6251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0" y="765000"/>
            <a:ext cx="9212400" cy="6125040"/>
            <a:chOff x="0" y="765000"/>
            <a:chExt cx="9212400" cy="6125040"/>
          </a:xfrm>
        </p:grpSpPr>
        <p:sp>
          <p:nvSpPr>
            <p:cNvPr id="514" name=""/>
            <p:cNvSpPr/>
            <p:nvPr/>
          </p:nvSpPr>
          <p:spPr>
            <a:xfrm>
              <a:off x="0" y="6335640"/>
              <a:ext cx="86756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Fuente: International Financial Statistics-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    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national Monetary Found.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515" name=""/>
            <p:cNvGraphicFramePr/>
            <p:nvPr/>
          </p:nvGraphicFramePr>
          <p:xfrm>
            <a:off x="54000" y="765000"/>
            <a:ext cx="9158400" cy="5386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1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4000" y="765000"/>
                      <a:ext cx="9158400" cy="5386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spd="med">
    <p:split dir="out" orient="vert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0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4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755640" y="1742760"/>
            <a:ext cx="7772400" cy="1469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Verdana"/>
              </a:rPr>
              <a:t>MUCHAS GRACIAS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subTitle"/>
          </p:nvPr>
        </p:nvSpPr>
        <p:spPr>
          <a:xfrm>
            <a:off x="2263680" y="3429000"/>
            <a:ext cx="460872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Fernando Cillóniz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www.informaccion.com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2"/>
          <a:stretch/>
        </p:blipFill>
        <p:spPr>
          <a:xfrm>
            <a:off x="3708360" y="836640"/>
            <a:ext cx="1971720" cy="523800"/>
          </a:xfrm>
          <a:prstGeom prst="rect">
            <a:avLst/>
          </a:prstGeom>
          <a:ln w="0">
            <a:noFill/>
          </a:ln>
        </p:spPr>
      </p:pic>
    </p:spTree>
  </p:cSld>
  <p:transition spd="med">
    <p:split dir="out" orient="vert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5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8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2" name=""/>
          <p:cNvGrpSpPr/>
          <p:nvPr/>
        </p:nvGrpSpPr>
        <p:grpSpPr>
          <a:xfrm>
            <a:off x="55440" y="1068480"/>
            <a:ext cx="9102960" cy="5730480"/>
            <a:chOff x="55440" y="1068480"/>
            <a:chExt cx="9102960" cy="5730480"/>
          </a:xfrm>
        </p:grpSpPr>
        <p:graphicFrame>
          <p:nvGraphicFramePr>
            <p:cNvPr id="343" name=""/>
            <p:cNvGraphicFramePr/>
            <p:nvPr/>
          </p:nvGraphicFramePr>
          <p:xfrm>
            <a:off x="55440" y="1068480"/>
            <a:ext cx="9102960" cy="5276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4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5440" y="1068480"/>
                      <a:ext cx="9102960" cy="527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5" name=""/>
            <p:cNvSpPr/>
            <p:nvPr/>
          </p:nvSpPr>
          <p:spPr>
            <a:xfrm>
              <a:off x="457200" y="6248520"/>
              <a:ext cx="230184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s-ES_tradnl" sz="1400" spc="-1" strike="noStrike">
                  <a:solidFill>
                    <a:srgbClr val="000000"/>
                  </a:solidFill>
                  <a:latin typeface="Verdana"/>
                </a:rPr>
                <a:t>Fuente: EMMSA</a:t>
              </a: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124000" y="-360"/>
            <a:ext cx="70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PAPA: ABASTECIMIENTO EN EL MERCADO MAYORISTA DE LIMA (TM) -  20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268000" y="-360"/>
            <a:ext cx="649476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MANDARINA: Precios y volúmenes suministrados al Mercado Mayorista de Lima 2001, 2002 y 2003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47160" y="1181160"/>
            <a:ext cx="9096480" cy="5678640"/>
            <a:chOff x="47160" y="1181160"/>
            <a:chExt cx="9096480" cy="5678640"/>
          </a:xfrm>
        </p:grpSpPr>
        <p:graphicFrame>
          <p:nvGraphicFramePr>
            <p:cNvPr id="351" name=""/>
            <p:cNvGraphicFramePr/>
            <p:nvPr/>
          </p:nvGraphicFramePr>
          <p:xfrm>
            <a:off x="66600" y="1181160"/>
            <a:ext cx="9077040" cy="510552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5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6600" y="1181160"/>
                      <a:ext cx="9077040" cy="5105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53" name=""/>
            <p:cNvSpPr/>
            <p:nvPr/>
          </p:nvSpPr>
          <p:spPr>
            <a:xfrm>
              <a:off x="47160" y="6400800"/>
              <a:ext cx="32439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Verdana"/>
                </a:rPr>
                <a:t>NOTA</a:t>
              </a:r>
              <a:r>
                <a:rPr b="1" i="1" lang="es-ES_tradnl" sz="1200" spc="-1" strike="noStrike">
                  <a:solidFill>
                    <a:srgbClr val="000000"/>
                  </a:solidFill>
                  <a:latin typeface="Verdana"/>
                </a:rPr>
                <a:t>:  </a:t>
              </a:r>
              <a:r>
                <a:rPr b="0" lang="es-ES_tradnl" sz="1200" spc="-1" strike="noStrike">
                  <a:solidFill>
                    <a:srgbClr val="000000"/>
                  </a:solidFill>
                  <a:latin typeface="Verdana"/>
                </a:rPr>
                <a:t>Precio de Mandarina Satsuma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1200" spc="-1" strike="noStrike">
                  <a:solidFill>
                    <a:srgbClr val="000000"/>
                  </a:solidFill>
                  <a:latin typeface="Verdana"/>
                </a:rPr>
                <a:t>Fuente: Mercado Mayorista de Frutas  Nº 2</a:t>
              </a:r>
              <a:endParaRPr b="0" lang="en-US" sz="12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205400" y="1219320"/>
              <a:ext cx="175248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813800" y="1295640"/>
              <a:ext cx="40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234200" y="1524240"/>
              <a:ext cx="11044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8278200" y="1494000"/>
              <a:ext cx="5752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43,958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49,99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&gt; 14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5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wipe dir="r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"/>
          <p:cNvGrpSpPr/>
          <p:nvPr/>
        </p:nvGrpSpPr>
        <p:grpSpPr>
          <a:xfrm>
            <a:off x="231840" y="907920"/>
            <a:ext cx="8877240" cy="6102720"/>
            <a:chOff x="231840" y="907920"/>
            <a:chExt cx="8877240" cy="6102720"/>
          </a:xfrm>
        </p:grpSpPr>
        <p:graphicFrame>
          <p:nvGraphicFramePr>
            <p:cNvPr id="361" name=""/>
            <p:cNvGraphicFramePr/>
            <p:nvPr/>
          </p:nvGraphicFramePr>
          <p:xfrm>
            <a:off x="231840" y="907920"/>
            <a:ext cx="8877240" cy="51832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62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31840" y="907920"/>
                      <a:ext cx="8877240" cy="518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63" name=""/>
            <p:cNvSpPr/>
            <p:nvPr/>
          </p:nvSpPr>
          <p:spPr>
            <a:xfrm>
              <a:off x="239760" y="6124680"/>
              <a:ext cx="35053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Fuente: Mercado Mayorista de Frutas N° 2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000000"/>
                  </a:solidFill>
                  <a:latin typeface="Verdana"/>
                  <a:ea typeface="Arial"/>
                </a:rPr>
                <a:t>Elaboración : Inform@cción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3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123640" y="-171720"/>
            <a:ext cx="64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MANDARINA: ABASTECIMIENTO EN EL MERCADO MAYORISTA DE LIMA -  20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67" name=""/>
          <p:cNvGraphicFramePr/>
          <p:nvPr/>
        </p:nvGraphicFramePr>
        <p:xfrm>
          <a:off x="198360" y="981000"/>
          <a:ext cx="8945640" cy="507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8360" y="981000"/>
                    <a:ext cx="8945640" cy="50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0" y="6064200"/>
            <a:ext cx="4527720" cy="7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Fuente: MINAG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aboración: inform@c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*Estimado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68360" y="-360"/>
            <a:ext cx="6188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ARROZ: PRODUCCION NACIONAL </a:t>
            </a:r>
            <a:br>
              <a:rPr sz="2000"/>
            </a:b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(TM)  -  2003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2339640" y="-76680"/>
            <a:ext cx="6194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ARROZ: ABASTECIMIENTO EN EL MERCADO PRODUCTORES DE SANTA ANITA (TM) Y PRECIOS MAYORISTA (US$ / KG)  ene 01 - dic 03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-11160" y="914400"/>
            <a:ext cx="9231480" cy="5942880"/>
            <a:chOff x="-11160" y="914400"/>
            <a:chExt cx="9231480" cy="5942880"/>
          </a:xfrm>
        </p:grpSpPr>
        <p:graphicFrame>
          <p:nvGraphicFramePr>
            <p:cNvPr id="375" name=""/>
            <p:cNvGraphicFramePr/>
            <p:nvPr/>
          </p:nvGraphicFramePr>
          <p:xfrm>
            <a:off x="0" y="990720"/>
            <a:ext cx="9220320" cy="55054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7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0" y="990720"/>
                      <a:ext cx="9220320" cy="550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77" name=""/>
            <p:cNvSpPr/>
            <p:nvPr/>
          </p:nvSpPr>
          <p:spPr>
            <a:xfrm>
              <a:off x="7140600" y="914400"/>
              <a:ext cx="192708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809120" y="990720"/>
              <a:ext cx="406080" cy="2462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167600" y="1219320"/>
              <a:ext cx="1292040" cy="596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222400" y="1209600"/>
              <a:ext cx="680760" cy="59616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363,597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394,618 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&gt; 9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-11160" y="6519960"/>
              <a:ext cx="443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</a:rPr>
                <a:t>Fuente: Mercado Productores de Santa Anita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82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6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"/>
          <p:cNvGraphicFramePr/>
          <p:nvPr/>
        </p:nvGraphicFramePr>
        <p:xfrm>
          <a:off x="66600" y="1260360"/>
          <a:ext cx="8945640" cy="507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600" y="1260360"/>
                    <a:ext cx="8945640" cy="507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108000" y="6264360"/>
            <a:ext cx="44197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Verdana"/>
              </a:rPr>
              <a:t>Fuente: Mercado Productores de Sta Anita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laboración: inform@cció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195280" y="-360"/>
            <a:ext cx="6948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ARROZ: ABASTECIMIENTO EN EL MERCADO PRODUCTORES DE SANTA ANITA (TM) -  2003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Arial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2123640" y="-27360"/>
            <a:ext cx="6867720" cy="1143000"/>
          </a:xfrm>
          <a:prstGeom prst="rect">
            <a:avLst/>
          </a:prstGeom>
          <a:noFill/>
          <a:ln w="0">
            <a:noFill/>
          </a:ln>
          <a:effectLst>
            <a:outerShdw dist="40186" dir="20503642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ZUCAR: ABASTECIMIENTO EN EL MERCADO PRODUCTORES DE SANTA ANITA (TM) Y PRECIOS MAYORISTA (US$ / KG) ene 01 - dic 03</a:t>
            </a: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-11160" y="1052640"/>
            <a:ext cx="9123480" cy="5804640"/>
            <a:chOff x="-11160" y="1052640"/>
            <a:chExt cx="9123480" cy="5804640"/>
          </a:xfrm>
        </p:grpSpPr>
        <p:sp>
          <p:nvSpPr>
            <p:cNvPr id="392" name=""/>
            <p:cNvSpPr/>
            <p:nvPr/>
          </p:nvSpPr>
          <p:spPr>
            <a:xfrm>
              <a:off x="-11160" y="6519960"/>
              <a:ext cx="4437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Verdana"/>
                </a:rPr>
                <a:t>Fuente: Mercado Productores de Santa Anita</a:t>
              </a: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aphicFrame>
          <p:nvGraphicFramePr>
            <p:cNvPr id="393" name=""/>
            <p:cNvGraphicFramePr/>
            <p:nvPr/>
          </p:nvGraphicFramePr>
          <p:xfrm>
            <a:off x="6480" y="1123920"/>
            <a:ext cx="9074160" cy="527688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394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6480" y="1123920"/>
                      <a:ext cx="9074160" cy="5276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95" name=""/>
            <p:cNvSpPr/>
            <p:nvPr/>
          </p:nvSpPr>
          <p:spPr>
            <a:xfrm>
              <a:off x="7451640" y="1052640"/>
              <a:ext cx="1660680" cy="1066680"/>
            </a:xfrm>
            <a:prstGeom prst="flowChartAlternateProcess">
              <a:avLst/>
            </a:prstGeom>
            <a:solidFill>
              <a:srgbClr val="ff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047080" y="1128600"/>
              <a:ext cx="406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 </a:t>
              </a:r>
              <a:r>
                <a:rPr b="1" lang="es-MX" sz="1000" spc="-1" strike="noStrike" u="sng">
                  <a:solidFill>
                    <a:srgbClr val="000000"/>
                  </a:solidFill>
                  <a:uFillTx/>
                  <a:latin typeface="Verdana"/>
                </a:rPr>
                <a:t>TM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67480" y="1357200"/>
              <a:ext cx="110520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Año - 03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Variación %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424360" y="1327320"/>
              <a:ext cx="6469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251,252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260,994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s-MX" sz="1000" spc="-1" strike="noStrike">
                  <a:solidFill>
                    <a:srgbClr val="000000"/>
                  </a:solidFill>
                  <a:latin typeface="Verdana"/>
                </a:rPr>
                <a:t>&gt; 4</a:t>
              </a:r>
              <a:endParaRPr b="0" lang="en-US" sz="1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pic>
        <p:nvPicPr>
          <p:cNvPr id="39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971720" cy="5238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3780000" y="6381720"/>
            <a:ext cx="53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cc00"/>
                </a:solidFill>
                <a:latin typeface="Verdana"/>
                <a:ea typeface="Arial"/>
              </a:rPr>
              <a:t>www.informaccion.co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plit dir="out" orient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8T17:26:36Z</dcterms:created>
  <dc:creator>Luigi Riva Melofiro</dc:creator>
  <dc:description/>
  <dc:language>en-US</dc:language>
  <cp:lastModifiedBy>Asociacion Civil</cp:lastModifiedBy>
  <dcterms:modified xsi:type="dcterms:W3CDTF">2004-01-29T00:24:58Z</dcterms:modified>
  <cp:revision>50</cp:revision>
  <dc:subject/>
  <dc:title>COMERCIALIZACION DE ARROZ EN EL MERCADO PRODUCTORES DE STA. ANITA POR   AÑO 1999, 2000, 2001 y 2002 (TM)</dc:title>
</cp:coreProperties>
</file>